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A82-8B16-4AAE-A2AC-F5AE01A0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C42-895D-4D4B-AF25-A21F5B88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440-5316-4610-A7F4-92B1B004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423-1515-4B21-8086-E3271528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FE18-47D0-4AD2-9F30-884BD350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BAB-ECB8-4015-B5CC-D68A3A2F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30A8-3330-4EF4-B453-88F1810E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AFFF-E2EA-4358-9691-9F2B357B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997E-F712-4ED3-8343-3A3A6D65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2D8A-E0D2-4F2F-94FF-2C28EA16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1EFA-5455-4651-A90A-D43A429D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BD8-8DD8-47CE-82F5-DC5471A3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2147-3C63-47C4-92E2-71415EA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1E33-C8D2-44A3-AC93-F7D893D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0E5-ED34-4953-92A7-BFA0CF9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2CF8-C4E4-4858-931C-2F2BA4E8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A48B-9F91-4AA8-AF77-342266CA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626-E4A7-42A0-8644-6D4DEB6F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59D-3F84-4757-8A75-8ED6E4EC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476-125C-4A50-A338-FF0F687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1B7-FB25-4259-ABCC-31B739A5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075-D8B8-4105-9745-AAD93D8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6F6-28A0-4CD4-AC7E-44062D8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A10-4014-42E5-A3EE-B0E9A19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F8A2-74F3-4E5B-8BC5-F4F3643480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B543-8BF2-4552-B0D6-2DFFEB6BC8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112160" cy="316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нтересное и меткое “Арифметическое” сравнение сделал Л.Н. Толстой. Он говорил, “что человек подобен дроби, числитель которой есть то, что человек представляет собой, а знаменатель – то, что он думает о себе. Чем большего человек о себе мнения, тем больше знаменатель, а значит, тем меньше дробь”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ема учебного проекта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По жизни с дробя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1311480" cy="13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мелкие свинцовые шарики для стрельбы из охотничьего ружь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частые прерывистые звуки, например “барабанная…”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может быть правильной или неправильной, обыкновенной или десятич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то слово – “Дробь”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7" descr="MPj04393770000[1]"/>
          <p:cNvPicPr/>
          <p:nvPr/>
        </p:nvPicPr>
        <p:blipFill>
          <a:blip r:embed="rId1"/>
          <a:stretch/>
        </p:blipFill>
        <p:spPr>
          <a:xfrm>
            <a:off x="250920" y="4267080"/>
            <a:ext cx="34574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используем дроби, когда хотим узнать время. Когда взвешивают товар в магазине. В измерениях. Дроби окружают нас везде. С помощью дробей мы можем измерять длины, делить целое на части. А как измерить рост человека или расстояние между объектами, не зная дробе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ё вокруг – дроб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, мы с вами на уроках будем решать задачи, применяя знания действий с дробями, которые решаются только с опорой на ваш жизненный опыт или опыт, взятый из истории нашей страны, закрепить знания о дробях. И, я думаю, что для вас решение задач на дроби приобретет большой смысл. Цель– решить практические задачи на дроби, взятые из реально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казал Р.Декар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99ff99"/>
                </a:solidFill>
                <a:latin typeface="Arial"/>
              </a:rPr>
              <a:t>Любопытный отыскивает редкости только затем, чтобы им удивляться; любознательный же затем, чтобы узнать их и перестать удивляться”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будем же любознательным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9ffff"/>
                </a:solidFill>
                <a:latin typeface="Arial"/>
              </a:rPr>
              <a:t>Основополагающий вопрос:</a:t>
            </a:r>
            <a:br>
              <a:rPr sz="4000"/>
            </a:br>
            <a:r>
              <a:rPr b="1" i="1" lang="ru-RU" sz="3200" spc="-1" strike="noStrike">
                <a:solidFill>
                  <a:srgbClr val="f2f2f2"/>
                </a:solidFill>
                <a:latin typeface="Arial"/>
              </a:rPr>
              <a:t>можно ли обойтись без дробей?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320" y="1600200"/>
            <a:ext cx="814356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ffff"/>
                </a:solidFill>
                <a:latin typeface="Arial"/>
              </a:rPr>
              <a:t>Проблемн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4f4"/>
                </a:solidFill>
                <a:latin typeface="Arial"/>
              </a:rPr>
              <a:t>Когда дроби начали дели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4f4"/>
                </a:solidFill>
                <a:latin typeface="Arial"/>
              </a:rPr>
              <a:t>Без дробей на свете жить сложн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1f6"/>
                </a:solidFill>
                <a:latin typeface="Arial"/>
              </a:rPr>
              <a:t>Как разделить 2 яблока на трои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285920" y="435780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ffff"/>
                </a:solidFill>
                <a:latin typeface="Arial"/>
              </a:rPr>
              <a:t>Учебн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обыкновенные дроби, числитель и знаменатель обыкновенной дроб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928800" y="2214720"/>
            <a:ext cx="2357280" cy="642600"/>
          </a:xfrm>
          <a:prstGeom prst="rect">
            <a:avLst/>
          </a:prstGeom>
          <a:gradFill rotWithShape="0">
            <a:gsLst>
              <a:gs pos="0">
                <a:srgbClr val="7887a1"/>
              </a:gs>
              <a:gs pos="100000">
                <a:srgbClr val="9eb2d4"/>
              </a:gs>
            </a:gsLst>
            <a:lin ang="16200000"/>
          </a:gradFill>
          <a:ln w="9360">
            <a:solidFill>
              <a:srgbClr val="a5b5c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лад одно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357200" y="5429160"/>
            <a:ext cx="2000520" cy="642600"/>
          </a:xfrm>
          <a:prstGeom prst="rect">
            <a:avLst/>
          </a:prstGeom>
          <a:gradFill rotWithShape="0">
            <a:gsLst>
              <a:gs pos="0">
                <a:srgbClr val="0069c6"/>
              </a:gs>
              <a:gs pos="100000">
                <a:srgbClr val="008e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по груп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4500720" y="928800"/>
            <a:ext cx="3929040" cy="1191240"/>
          </a:xfrm>
          <a:prstGeom prst="rect">
            <a:avLst/>
          </a:prstGeom>
          <a:gradFill rotWithShape="0">
            <a:gsLst>
              <a:gs pos="0">
                <a:srgbClr val="008181"/>
              </a:gs>
              <a:gs pos="100000">
                <a:srgbClr val="00afaf"/>
              </a:gs>
            </a:gsLst>
            <a:lin ang="16200000"/>
          </a:gra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 задания                                                               ( самостоятельный поиск информации, выполнение тес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Диаграмма 7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858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Дроби вокруг на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История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Как получаются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Где встречаются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eef4f4"/>
                </a:solidFill>
                <a:latin typeface="Arial"/>
              </a:rPr>
              <a:t>Задачи на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6" descr="image010"/>
          <p:cNvPicPr/>
          <p:nvPr/>
        </p:nvPicPr>
        <p:blipFill>
          <a:blip r:embed="rId1"/>
          <a:stretch/>
        </p:blipFill>
        <p:spPr>
          <a:xfrm>
            <a:off x="3902040" y="3316320"/>
            <a:ext cx="5254560" cy="3968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b633e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Дроби всякие нужны,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Дроби разные важны.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Дробь учи, тогда сверкнёт тебе удача.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Если будешь дроби знать,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Точно смысл их понимать,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танет лёгкой даже трудная 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1" descr="C:\Documents and Settings\Slushatel-1-2\Мои документы\ksenya\см1.gif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429680" y="142920"/>
            <a:ext cx="157140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13:50Z</dcterms:created>
  <dc:creator>25055</dc:creator>
  <dc:description/>
  <dc:language>en-US</dc:language>
  <cp:lastModifiedBy>25055</cp:lastModifiedBy>
  <dcterms:modified xsi:type="dcterms:W3CDTF">2010-05-24T09:47:01Z</dcterms:modified>
  <cp:revision>42</cp:revision>
  <dc:subject/>
  <dc:title>Слайд 1</dc:title>
</cp:coreProperties>
</file>